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882-5DAD-4F98-BBE7-3F99D510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F4D-A89F-47CF-BFE2-D551090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20C-1565-43B3-B37A-3A31EFCD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8ED-43F8-4488-A605-BE33F906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9DF-E7F0-4A74-A422-496FDD4A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039-44E2-44EE-8182-03D9B94B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F94-8A57-4780-B364-379D721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6FFB-7F02-4612-A17E-FA90927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1DB-E520-4F6B-A48F-4161C31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D30-685E-40C3-AEB0-2783754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216A-639B-465D-9E46-01C83BB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AF5-4E94-4A3B-B0F4-9902CF61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F8E7-3FA1-4600-A118-FBFC526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205-7C8B-4A87-9D39-B8FD1E9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AD14-9D31-404C-B978-6BBB6EF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45F5-919C-483B-923E-102D0CD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9E53-7EA9-44BD-A6BF-D820B1BE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084-EF9A-41E4-B462-AF8BF0F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251-0FB5-40AA-9777-A603D3C0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B10-ACEF-4DD8-8218-6C828776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AB3-610F-4603-8FE1-BCB90EA7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E09-08F3-4474-90D7-1127D97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3AA-5D4E-49A1-8360-4D68577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D6A-815C-40F1-9B77-C050E34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60160" y="-255960"/>
            <a:ext cx="3487320" cy="3562560"/>
            <a:chOff x="5960160" y="-255960"/>
            <a:chExt cx="3487320" cy="35625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0080" cy="749520"/>
              <a:chOff x="7567560" y="2500200"/>
              <a:chExt cx="1000080" cy="7495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0080" cy="749520"/>
              <a:chOff x="7797960" y="1442880"/>
              <a:chExt cx="1000080" cy="74952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0080" cy="749160"/>
              <a:chOff x="6329520" y="0"/>
              <a:chExt cx="1000080" cy="74916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0080" cy="749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960160" y="-255960"/>
              <a:ext cx="3487320" cy="3562560"/>
              <a:chOff x="5960160" y="-255960"/>
              <a:chExt cx="3487320" cy="35625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4000" cy="1100160"/>
                <a:chOff x="6991200" y="403200"/>
                <a:chExt cx="1494000" cy="110016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4000" cy="11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1960" cy="2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960160" y="-255960"/>
                <a:ext cx="3487320" cy="2771280"/>
                <a:chOff x="5960160" y="-255960"/>
                <a:chExt cx="3487320" cy="27712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040880" y="863640"/>
                  <a:ext cx="2117880" cy="1483920"/>
                  <a:chOff x="7040880" y="863640"/>
                  <a:chExt cx="2117880" cy="14839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052400" y="1141200"/>
                    <a:ext cx="96444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76920" y="1582560"/>
                    <a:ext cx="515520" cy="68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05880" y="11520"/>
                  <a:ext cx="1641600" cy="2108160"/>
                  <a:chOff x="7805880" y="11520"/>
                  <a:chExt cx="1641600" cy="21081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36480" y="278640"/>
                    <a:ext cx="107280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723160" y="1315080"/>
                    <a:ext cx="57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785000" y="153720"/>
                  <a:ext cx="1583640" cy="1659600"/>
                  <a:chOff x="7785000" y="153720"/>
                  <a:chExt cx="1583640" cy="165960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17040" y="356760"/>
                    <a:ext cx="10148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721360" y="1116000"/>
                    <a:ext cx="54108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765920" y="286920"/>
                  <a:ext cx="1559160" cy="1261800"/>
                  <a:chOff x="7765920" y="286920"/>
                  <a:chExt cx="1559160" cy="12618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00120" y="429480"/>
                    <a:ext cx="9835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720280" y="881640"/>
                    <a:ext cx="524520" cy="60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18840" y="484920"/>
                  <a:ext cx="1324080" cy="667800"/>
                  <a:chOff x="7818840" y="484920"/>
                  <a:chExt cx="1324080" cy="6678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33600" y="542160"/>
                    <a:ext cx="8424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64480" y="690840"/>
                    <a:ext cx="45036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4560" y="611640"/>
                  <a:ext cx="1117080" cy="223920"/>
                  <a:chOff x="7864560" y="611640"/>
                  <a:chExt cx="1117080" cy="2239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6360" y="636840"/>
                    <a:ext cx="7279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9600" y="618480"/>
                    <a:ext cx="3880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94720" y="304200"/>
                  <a:ext cx="1135080" cy="675000"/>
                  <a:chOff x="7794720" y="304200"/>
                  <a:chExt cx="1135080" cy="6750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17040" y="625680"/>
                    <a:ext cx="7012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10400" y="342360"/>
                    <a:ext cx="3722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267960" y="927360"/>
                  <a:ext cx="2124000" cy="1477440"/>
                  <a:chOff x="6267960" y="927360"/>
                  <a:chExt cx="2124000" cy="14774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421040" y="1203480"/>
                    <a:ext cx="9590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431760" y="1646280"/>
                    <a:ext cx="51336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960160" y="97920"/>
                  <a:ext cx="1641960" cy="2114280"/>
                  <a:chOff x="5960160" y="97920"/>
                  <a:chExt cx="1641960" cy="21142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495480" y="366480"/>
                    <a:ext cx="10767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109920" y="1405440"/>
                    <a:ext cx="57600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041520" y="248040"/>
                  <a:ext cx="1590120" cy="1656720"/>
                  <a:chOff x="6041520" y="248040"/>
                  <a:chExt cx="1590120" cy="1656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586920" y="450000"/>
                    <a:ext cx="10112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148080" y="1206000"/>
                    <a:ext cx="5396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082920" y="379800"/>
                  <a:ext cx="1566720" cy="1260720"/>
                  <a:chOff x="6082920" y="379800"/>
                  <a:chExt cx="1566720" cy="12607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36240" y="521640"/>
                    <a:ext cx="9781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162480" y="974520"/>
                    <a:ext cx="52200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67960" y="577080"/>
                  <a:ext cx="1324440" cy="664560"/>
                  <a:chOff x="6267960" y="577080"/>
                  <a:chExt cx="1324440" cy="66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33080" y="634320"/>
                    <a:ext cx="844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94960" y="781200"/>
                    <a:ext cx="4503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23120" y="700560"/>
                  <a:ext cx="1119600" cy="222480"/>
                  <a:chOff x="6423120" y="700560"/>
                  <a:chExt cx="1119600" cy="222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7320" y="727200"/>
                    <a:ext cx="72288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6000" y="707040"/>
                    <a:ext cx="388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469200" y="394560"/>
                  <a:ext cx="1138680" cy="673200"/>
                  <a:chOff x="6469200" y="394560"/>
                  <a:chExt cx="1138680" cy="67320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86440" y="715320"/>
                    <a:ext cx="6987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16360" y="432720"/>
                    <a:ext cx="371160" cy="43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73160" y="235440"/>
                  <a:ext cx="1184760" cy="943560"/>
                  <a:chOff x="6473160" y="235440"/>
                  <a:chExt cx="1184760" cy="943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10560" y="765720"/>
                    <a:ext cx="7182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543720" y="288360"/>
                    <a:ext cx="382680" cy="46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516360" y="21960"/>
                  <a:ext cx="1161360" cy="1316520"/>
                  <a:chOff x="6516360" y="21960"/>
                  <a:chExt cx="1161360" cy="13165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939720" y="862920"/>
                    <a:ext cx="71424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619320" y="86760"/>
                    <a:ext cx="3812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612120" y="-135720"/>
                  <a:ext cx="1041120" cy="1523880"/>
                  <a:chOff x="6612120" y="-135720"/>
                  <a:chExt cx="1041120" cy="15238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967800" y="895680"/>
                    <a:ext cx="680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724800" y="-76320"/>
                    <a:ext cx="36252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925680" y="-178200"/>
                  <a:ext cx="1226520" cy="1003320"/>
                  <a:chOff x="6925680" y="-178200"/>
                  <a:chExt cx="1226520" cy="1003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535160" y="343080"/>
                    <a:ext cx="65952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22880" y="-128880"/>
                    <a:ext cx="35136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153200" y="-162000"/>
                  <a:ext cx="891360" cy="991440"/>
                  <a:chOff x="7153200" y="-162000"/>
                  <a:chExt cx="891360" cy="99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506360" y="372240"/>
                    <a:ext cx="6246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28440" y="-131760"/>
                    <a:ext cx="33192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39280" y="108360"/>
                  <a:ext cx="1177920" cy="975240"/>
                  <a:chOff x="7739280" y="108360"/>
                  <a:chExt cx="1177920" cy="975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68080" y="663840"/>
                    <a:ext cx="7221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57840" y="163080"/>
                    <a:ext cx="38484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03640" y="-63000"/>
                  <a:ext cx="1163160" cy="1285200"/>
                  <a:chOff x="7703640" y="-63000"/>
                  <a:chExt cx="1163160" cy="12852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8840" y="748440"/>
                    <a:ext cx="72792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80080" y="2880"/>
                    <a:ext cx="38808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1400" y="489960"/>
                  <a:ext cx="521640" cy="6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6160" y="104040"/>
                  <a:ext cx="277200" cy="113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318440" y="-158760"/>
                  <a:ext cx="997560" cy="969840"/>
                  <a:chOff x="7318440" y="-158760"/>
                  <a:chExt cx="997560" cy="9698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252560" y="369360"/>
                    <a:ext cx="608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15320" y="-117360"/>
                    <a:ext cx="3240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108920" y="-255960"/>
                  <a:ext cx="1512720" cy="1047240"/>
                  <a:chOff x="7108920" y="-255960"/>
                  <a:chExt cx="1512720" cy="104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119000" y="256680"/>
                    <a:ext cx="7095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13680" y="-198720"/>
                    <a:ext cx="378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11840" y="-16920"/>
                  <a:ext cx="322920" cy="766080"/>
                  <a:chOff x="7611840" y="-16920"/>
                  <a:chExt cx="322920" cy="7660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42280" y="451080"/>
                    <a:ext cx="497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10120" y="50040"/>
                    <a:ext cx="2649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423840" y="887760"/>
                  <a:ext cx="1922040" cy="1627560"/>
                  <a:chOff x="6423840" y="887760"/>
                  <a:chExt cx="1922040" cy="1627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362000" y="1206000"/>
                    <a:ext cx="101304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595200" y="1739160"/>
                    <a:ext cx="542160" cy="70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805440" y="886680"/>
                  <a:ext cx="1281960" cy="1575720"/>
                  <a:chOff x="6805440" y="886680"/>
                  <a:chExt cx="1281960" cy="15757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232040" y="1199160"/>
                    <a:ext cx="95904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53400" y="1766520"/>
                    <a:ext cx="51336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98920" y="947160"/>
                  <a:ext cx="699840" cy="1373400"/>
                  <a:chOff x="7198920" y="947160"/>
                  <a:chExt cx="699840" cy="1373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25200" y="1235160"/>
                    <a:ext cx="8589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72720" y="1782720"/>
                    <a:ext cx="45576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054560" y="875880"/>
                  <a:ext cx="1971000" cy="1609920"/>
                  <a:chOff x="7054560" y="875880"/>
                  <a:chExt cx="1971000" cy="1609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035480" y="1186560"/>
                    <a:ext cx="100476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14560" y="1706400"/>
                    <a:ext cx="53676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202520" y="875160"/>
                  <a:ext cx="1564200" cy="1620360"/>
                  <a:chOff x="7202520" y="875160"/>
                  <a:chExt cx="1564200" cy="1620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129440" y="1197000"/>
                    <a:ext cx="9867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280" y="1766520"/>
                    <a:ext cx="527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352640" y="938520"/>
                  <a:ext cx="1104840" cy="1472400"/>
                  <a:chOff x="7352640" y="938520"/>
                  <a:chExt cx="1104840" cy="14724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209360" y="1252800"/>
                    <a:ext cx="915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72120" y="1812600"/>
                    <a:ext cx="487080" cy="55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580160" y="1024560"/>
                  <a:ext cx="521640" cy="1244160"/>
                  <a:chOff x="7580160" y="1024560"/>
                  <a:chExt cx="521640" cy="1244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364520" y="1308600"/>
                    <a:ext cx="800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51800" y="1819800"/>
                    <a:ext cx="42768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44800" y="1058760"/>
                  <a:ext cx="445680" cy="1174320"/>
                  <a:chOff x="7444800" y="1058760"/>
                  <a:chExt cx="445680" cy="117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87920" y="1357920"/>
                    <a:ext cx="7560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8360" y="1884600"/>
                    <a:ext cx="4017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444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74760" cy="2400120"/>
              </a:xfrm>
              <a:custGeom>
                <a:avLst/>
                <a:gdLst>
                  <a:gd name="textAreaLeft" fmla="*/ 1087200 w 2174760"/>
                  <a:gd name="textAreaRight" fmla="*/ 2174760 w 2174760"/>
                  <a:gd name="textAreaTop" fmla="*/ 42480 h 2400120"/>
                  <a:gd name="textAreaBottom" fmla="*/ 1221840 h 2400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0760"/>
                <a:ext cx="1548000" cy="2095560"/>
              </a:xfrm>
              <a:custGeom>
                <a:avLst/>
                <a:gdLst>
                  <a:gd name="textAreaLeft" fmla="*/ 141480 w 1548000"/>
                  <a:gd name="textAreaRight" fmla="*/ 1455480 w 1548000"/>
                  <a:gd name="textAreaTop" fmla="*/ 1047600 h 2095560"/>
                  <a:gd name="textAreaBottom" fmla="*/ 2095560 h 2095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0760" cy="2394000"/>
              </a:xfrm>
              <a:custGeom>
                <a:avLst/>
                <a:gdLst>
                  <a:gd name="textAreaLeft" fmla="*/ 316800 w 950760"/>
                  <a:gd name="textAreaRight" fmla="*/ 950400 w 9507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1600" y="822240"/>
                <a:ext cx="1460520" cy="2390760"/>
              </a:xfrm>
              <a:custGeom>
                <a:avLst/>
                <a:gdLst>
                  <a:gd name="textAreaLeft" fmla="*/ 428400 w 1460520"/>
                  <a:gd name="textAreaRight" fmla="*/ 1460520 w 1460520"/>
                  <a:gd name="textAreaTop" fmla="*/ 0 h 2390760"/>
                  <a:gd name="textAreaBottom" fmla="*/ 1217160 h 2390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28560" cy="2394000"/>
              </a:xfrm>
              <a:custGeom>
                <a:avLst/>
                <a:gdLst>
                  <a:gd name="textAreaLeft" fmla="*/ 313200 w 1528560"/>
                  <a:gd name="textAreaRight" fmla="*/ 1528920 w 15285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37960" cy="2394000"/>
              </a:xfrm>
              <a:custGeom>
                <a:avLst/>
                <a:gdLst>
                  <a:gd name="textAreaLeft" fmla="*/ 46800 w 237960"/>
                  <a:gd name="textAreaRight" fmla="*/ 237960 w 2379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38280" cy="2394000"/>
              </a:xfrm>
              <a:custGeom>
                <a:avLst/>
                <a:gdLst>
                  <a:gd name="textAreaLeft" fmla="*/ 126000 w 638280"/>
                  <a:gd name="textAreaRight" fmla="*/ 638280 w 63828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06480" cy="2393640"/>
              </a:xfrm>
              <a:custGeom>
                <a:avLst/>
                <a:gdLst>
                  <a:gd name="textAreaLeft" fmla="*/ 179280 w 906480"/>
                  <a:gd name="textAreaRight" fmla="*/ 906480 w 906480"/>
                  <a:gd name="textAreaTop" fmla="*/ 0 h 2393640"/>
                  <a:gd name="textAreaBottom" fmla="*/ 1218600 h 2393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26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880" y="1099440"/>
                <a:ext cx="22068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880" y="417600"/>
                <a:ext cx="1533600" cy="2394000"/>
              </a:xfrm>
              <a:custGeom>
                <a:avLst/>
                <a:gdLst>
                  <a:gd name="textAreaLeft" fmla="*/ 234000 w 1533600"/>
                  <a:gd name="textAreaRight" fmla="*/ 1533960 w 153360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76200" cy="2359080"/>
              </a:xfrm>
              <a:custGeom>
                <a:avLst/>
                <a:gdLst>
                  <a:gd name="textAreaLeft" fmla="*/ 104400 w 1276200"/>
                  <a:gd name="textAreaRight" fmla="*/ 1049400 w 1276200"/>
                  <a:gd name="textAreaTop" fmla="*/ 0 h 2359080"/>
                  <a:gd name="textAreaBottom" fmla="*/ 1179360 h 2359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38200" cy="2360520"/>
              </a:xfrm>
              <a:custGeom>
                <a:avLst/>
                <a:gdLst>
                  <a:gd name="textAreaLeft" fmla="*/ 106200 w 538200"/>
                  <a:gd name="textAreaRight" fmla="*/ 494280 w 538200"/>
                  <a:gd name="textAreaTop" fmla="*/ 0 h 2360520"/>
                  <a:gd name="textAreaBottom" fmla="*/ 1180080 h 2360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080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4440" y="457200"/>
                <a:ext cx="352440" cy="77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6280" y="225360"/>
                <a:ext cx="209520" cy="77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2640" cy="81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4720" cy="542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5160" cy="730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5160" y="788760"/>
                <a:ext cx="222120" cy="425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4080" y="775800"/>
                <a:ext cx="22212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7457-F44C-4143-8C32-4E567500E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254600" y="-323280"/>
            <a:ext cx="8400240" cy="8578440"/>
            <a:chOff x="1254600" y="-323280"/>
            <a:chExt cx="8400240" cy="857844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1400" cy="704880"/>
              <a:chOff x="3483000" y="954000"/>
              <a:chExt cx="941400" cy="70488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1400" cy="704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3560" cy="1285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54600" y="-323280"/>
              <a:ext cx="8400240" cy="8349840"/>
              <a:chOff x="1254600" y="-323280"/>
              <a:chExt cx="8400240" cy="83498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254600" y="-323280"/>
                <a:ext cx="8400240" cy="6697080"/>
                <a:chOff x="1254600" y="-323280"/>
                <a:chExt cx="8400240" cy="6697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4240" cy="2647800"/>
                  <a:chOff x="3735360" y="1266840"/>
                  <a:chExt cx="3594240" cy="2647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424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9560" cy="49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254600" y="-323280"/>
                  <a:ext cx="8400240" cy="6697080"/>
                  <a:chOff x="1254600" y="-323280"/>
                  <a:chExt cx="8400240" cy="66970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41920" y="2382480"/>
                    <a:ext cx="5122440" cy="3571560"/>
                    <a:chOff x="3841920" y="2382480"/>
                    <a:chExt cx="5122440" cy="35715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3870000" y="3052080"/>
                      <a:ext cx="2326680" cy="10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318800" y="4107600"/>
                      <a:ext cx="1245240" cy="16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89440" y="319680"/>
                    <a:ext cx="3965400" cy="5082120"/>
                    <a:chOff x="5689440" y="319680"/>
                    <a:chExt cx="3965400" cy="50821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66120" y="964800"/>
                      <a:ext cx="2592000" cy="10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901640" y="3449520"/>
                      <a:ext cx="1388880" cy="170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632200" y="677880"/>
                    <a:ext cx="3828600" cy="3999600"/>
                    <a:chOff x="5632200" y="677880"/>
                    <a:chExt cx="3828600" cy="3999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13920" y="1166040"/>
                      <a:ext cx="2445120" cy="9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894440" y="2988000"/>
                      <a:ext cx="1308600" cy="14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589360" y="985320"/>
                    <a:ext cx="3763800" cy="3057120"/>
                    <a:chOff x="5589360" y="985320"/>
                    <a:chExt cx="3763800" cy="3057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672520" y="1328040"/>
                      <a:ext cx="2365200" cy="9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892280" y="2444040"/>
                      <a:ext cx="1269720" cy="14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18960" y="1468440"/>
                    <a:ext cx="3198600" cy="1618920"/>
                    <a:chOff x="5718960" y="1468440"/>
                    <a:chExt cx="3198600" cy="1618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755320" y="1607040"/>
                      <a:ext cx="2041200" cy="66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55840" y="1962360"/>
                      <a:ext cx="1093680" cy="10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33080" y="1762560"/>
                    <a:ext cx="2696400" cy="544680"/>
                    <a:chOff x="5833080" y="1762560"/>
                    <a:chExt cx="2696400" cy="5446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8120" y="1809000"/>
                      <a:ext cx="174744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84120" y="1778760"/>
                      <a:ext cx="936720" cy="51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664240" y="1023840"/>
                    <a:ext cx="2748960" cy="1631160"/>
                    <a:chOff x="5664240" y="1023840"/>
                    <a:chExt cx="2748960" cy="16311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20400" y="1788840"/>
                      <a:ext cx="168768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96200" y="1117080"/>
                      <a:ext cx="902520" cy="10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004120" y="2529000"/>
                    <a:ext cx="5114880" cy="3582720"/>
                    <a:chOff x="2004120" y="2529000"/>
                    <a:chExt cx="5114880" cy="35827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4757040" y="3200040"/>
                      <a:ext cx="2332440" cy="10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406600" y="4253760"/>
                      <a:ext cx="1250280" cy="165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254600" y="535680"/>
                    <a:ext cx="3968280" cy="5085000"/>
                    <a:chOff x="1254600" y="535680"/>
                    <a:chExt cx="3968280" cy="50850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549160" y="1182240"/>
                      <a:ext cx="2596680" cy="108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1619640" y="3661920"/>
                      <a:ext cx="139140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452600" y="889560"/>
                    <a:ext cx="3827880" cy="4005360"/>
                    <a:chOff x="1452600" y="889560"/>
                    <a:chExt cx="3827880" cy="4005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755440" y="1377720"/>
                      <a:ext cx="24433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708920" y="3209040"/>
                      <a:ext cx="1309320" cy="147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556280" y="1202040"/>
                    <a:ext cx="3765240" cy="3057120"/>
                    <a:chOff x="1556280" y="1202040"/>
                    <a:chExt cx="3765240" cy="30571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871000" y="1545120"/>
                      <a:ext cx="2367000" cy="9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747080" y="2660040"/>
                      <a:ext cx="1269720" cy="143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990440" y="1686240"/>
                    <a:ext cx="3205800" cy="1618200"/>
                    <a:chOff x="1990440" y="1686240"/>
                    <a:chExt cx="3205800" cy="16182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18680" y="1824840"/>
                      <a:ext cx="2040840" cy="6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058480" y="2181240"/>
                      <a:ext cx="1092960" cy="10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73840" y="1981800"/>
                    <a:ext cx="2692080" cy="544320"/>
                    <a:chOff x="2373840" y="1981800"/>
                    <a:chExt cx="2692080" cy="54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12720" y="2026440"/>
                      <a:ext cx="1748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82120" y="1998000"/>
                      <a:ext cx="937800" cy="51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92640" y="1240920"/>
                    <a:ext cx="2748240" cy="1634760"/>
                    <a:chOff x="2492640" y="1240920"/>
                    <a:chExt cx="2748240" cy="16347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490920" y="2008440"/>
                      <a:ext cx="16934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606760" y="1334520"/>
                      <a:ext cx="90684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490120" y="858240"/>
                    <a:ext cx="2862720" cy="2275920"/>
                    <a:chOff x="2490120" y="858240"/>
                    <a:chExt cx="2862720" cy="2275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542760" y="2125800"/>
                      <a:ext cx="1738800" cy="72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661840" y="987120"/>
                      <a:ext cx="9295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2591280" y="347760"/>
                    <a:ext cx="2814480" cy="3189600"/>
                    <a:chOff x="2591280" y="347760"/>
                    <a:chExt cx="2814480" cy="31896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604680" y="2366280"/>
                      <a:ext cx="174024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842560" y="506160"/>
                      <a:ext cx="928800" cy="118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819880" y="-35280"/>
                    <a:ext cx="2539440" cy="3681360"/>
                    <a:chOff x="2819880" y="-35280"/>
                    <a:chExt cx="2539440" cy="3681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689640" y="2438280"/>
                      <a:ext cx="1653480" cy="73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096360" y="109080"/>
                      <a:ext cx="884160" cy="11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85240" y="-146160"/>
                    <a:ext cx="2949480" cy="2448000"/>
                    <a:chOff x="3585240" y="-146160"/>
                    <a:chExt cx="2949480" cy="24480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036400" y="1122120"/>
                      <a:ext cx="15930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825360" y="-28800"/>
                      <a:ext cx="853200" cy="10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114800" y="-90000"/>
                    <a:ext cx="2167200" cy="2398320"/>
                    <a:chOff x="4114800" y="-90000"/>
                    <a:chExt cx="2167200" cy="23983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966920" y="1188000"/>
                      <a:ext cx="15210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296960" y="-14400"/>
                      <a:ext cx="815760" cy="9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2760" y="558360"/>
                    <a:ext cx="2863800" cy="2356920"/>
                    <a:chOff x="5522760" y="558360"/>
                    <a:chExt cx="2863800" cy="23569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595120" y="1888200"/>
                      <a:ext cx="1746000" cy="72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270920" y="691560"/>
                      <a:ext cx="935280" cy="11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34920" y="145440"/>
                    <a:ext cx="2828520" cy="3082320"/>
                    <a:chOff x="5434920" y="145440"/>
                    <a:chExt cx="2828520" cy="30823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99360" y="2074680"/>
                      <a:ext cx="175032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083360" y="304200"/>
                      <a:ext cx="938520" cy="11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70600"/>
                    <a:ext cx="12618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7720" y="544680"/>
                    <a:ext cx="6760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502520" y="-87840"/>
                    <a:ext cx="2425680" cy="2342520"/>
                    <a:chOff x="4502520" y="-87840"/>
                    <a:chExt cx="2425680" cy="23425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341240" y="1176480"/>
                      <a:ext cx="148644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50440" y="16560"/>
                      <a:ext cx="795960" cy="90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000680" y="-323280"/>
                    <a:ext cx="3663720" cy="2528280"/>
                    <a:chOff x="4000680" y="-323280"/>
                    <a:chExt cx="3663720" cy="25282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026600" y="903600"/>
                      <a:ext cx="1723680" cy="80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31040" y="-184680"/>
                      <a:ext cx="920160" cy="12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218560" y="236880"/>
                    <a:ext cx="793800" cy="1870200"/>
                    <a:chOff x="5218560" y="236880"/>
                    <a:chExt cx="793800" cy="1870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815000" y="1379520"/>
                      <a:ext cx="12034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3360" y="396720"/>
                      <a:ext cx="643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385000" y="2424240"/>
                    <a:ext cx="4621680" cy="3949560"/>
                    <a:chOff x="2385000" y="2424240"/>
                    <a:chExt cx="4621680" cy="39495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4618440" y="3192840"/>
                      <a:ext cx="2454120" cy="10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806920" y="4481280"/>
                      <a:ext cx="131364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283560" y="2428560"/>
                    <a:ext cx="3097800" cy="3806640"/>
                    <a:chOff x="3283560" y="2428560"/>
                    <a:chExt cx="3097800" cy="38066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317120" y="3179520"/>
                      <a:ext cx="2311200" cy="10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643920" y="4551840"/>
                      <a:ext cx="1238760" cy="161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237920" y="2566800"/>
                    <a:ext cx="1688760" cy="3321000"/>
                    <a:chOff x="4237920" y="2566800"/>
                    <a:chExt cx="1688760" cy="33210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295520" y="3253320"/>
                      <a:ext cx="2068920" cy="81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9000" y="4579920"/>
                      <a:ext cx="1108800" cy="12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872160" y="2413080"/>
                    <a:ext cx="4769280" cy="3870360"/>
                    <a:chOff x="3872160" y="2413080"/>
                    <a:chExt cx="4769280" cy="3870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3827520" y="3163320"/>
                      <a:ext cx="2426760" cy="10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924600" y="4403520"/>
                      <a:ext cx="1299240" cy="169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235760" y="2408400"/>
                    <a:ext cx="3773160" cy="3907800"/>
                    <a:chOff x="4235760" y="2408400"/>
                    <a:chExt cx="3773160" cy="39078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062960" y="3182040"/>
                      <a:ext cx="2375280" cy="10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6160" y="4558320"/>
                      <a:ext cx="1270800" cy="162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603680" y="2553120"/>
                    <a:ext cx="2656800" cy="3564360"/>
                    <a:chOff x="4603680" y="2553120"/>
                    <a:chExt cx="2656800" cy="3564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265280" y="3307680"/>
                      <a:ext cx="2210760" cy="86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33800" y="4658040"/>
                      <a:ext cx="1184400" cy="13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144760" y="2752920"/>
                    <a:ext cx="1265760" cy="3016800"/>
                    <a:chOff x="5144760" y="2752920"/>
                    <a:chExt cx="1265760" cy="30168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635000" y="3429000"/>
                      <a:ext cx="1930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12880" y="4673160"/>
                      <a:ext cx="1035360" cy="10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816440" y="2844720"/>
                    <a:ext cx="1085040" cy="2831760"/>
                    <a:chOff x="4816440" y="2844720"/>
                    <a:chExt cx="1085040" cy="28317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684680" y="3568320"/>
                      <a:ext cx="18291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03400" y="4827240"/>
                      <a:ext cx="97992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49800" cy="7344000"/>
                <a:chOff x="2174760" y="682560"/>
                <a:chExt cx="6949800" cy="734400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49800" cy="7344000"/>
                  <a:chOff x="2174760" y="682560"/>
                  <a:chExt cx="6949800" cy="7344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1440" y="857880"/>
                    <a:ext cx="3723120" cy="5040360"/>
                  </a:xfrm>
                  <a:custGeom>
                    <a:avLst/>
                    <a:gdLst>
                      <a:gd name="textAreaLeft" fmla="*/ 340200 w 3723120"/>
                      <a:gd name="textAreaRight" fmla="*/ 3500280 w 3723120"/>
                      <a:gd name="textAreaTop" fmla="*/ 2520000 h 5040360"/>
                      <a:gd name="textAreaBottom" fmla="*/ 5040360 h 504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160"/>
                    <a:ext cx="3512160" cy="5756400"/>
                  </a:xfrm>
                  <a:custGeom>
                    <a:avLst/>
                    <a:gdLst>
                      <a:gd name="textAreaLeft" fmla="*/ 1031040 w 3512160"/>
                      <a:gd name="textAreaRight" fmla="*/ 3512520 w 351216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7040" y="1752480"/>
                    <a:ext cx="2187000" cy="5756400"/>
                  </a:xfrm>
                  <a:custGeom>
                    <a:avLst/>
                    <a:gdLst>
                      <a:gd name="textAreaLeft" fmla="*/ 432360 w 2187000"/>
                      <a:gd name="textAreaRight" fmla="*/ 2187000 w 2187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0000" cy="5756400"/>
                  </a:xfrm>
                  <a:custGeom>
                    <a:avLst/>
                    <a:gdLst>
                      <a:gd name="textAreaLeft" fmla="*/ 563040 w 3690000"/>
                      <a:gd name="textAreaRight" fmla="*/ 3690360 w 3690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2440" y="682560"/>
                    <a:ext cx="3075840" cy="5676840"/>
                  </a:xfrm>
                  <a:custGeom>
                    <a:avLst/>
                    <a:gdLst>
                      <a:gd name="textAreaLeft" fmla="*/ 252000 w 3075840"/>
                      <a:gd name="textAreaRight" fmla="*/ 2529000 w 307584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960" y="1874880"/>
                    <a:ext cx="1303200" cy="5676840"/>
                  </a:xfrm>
                  <a:custGeom>
                    <a:avLst/>
                    <a:gdLst>
                      <a:gd name="textAreaLeft" fmla="*/ 257760 w 1303200"/>
                      <a:gd name="textAreaRight" fmla="*/ 1196640 w 130320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800" y="836640"/>
                    <a:ext cx="510840" cy="18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5560"/>
                  <a:ext cx="539640" cy="1027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05840" cy="7542360"/>
              <a:chOff x="2342880" y="712800"/>
              <a:chExt cx="6405840" cy="7542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6520" y="3235320"/>
                <a:ext cx="59364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476440"/>
                <a:ext cx="5227560" cy="5778720"/>
              </a:xfrm>
              <a:custGeom>
                <a:avLst/>
                <a:gdLst>
                  <a:gd name="textAreaLeft" fmla="*/ 2613600 w 5227560"/>
                  <a:gd name="textAreaRight" fmla="*/ 5227560 w 5227560"/>
                  <a:gd name="textAreaTop" fmla="*/ 102960 h 5778720"/>
                  <a:gd name="textAreaBottom" fmla="*/ 2941920 h 5778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297160" cy="5757840"/>
              </a:xfrm>
              <a:custGeom>
                <a:avLst/>
                <a:gdLst>
                  <a:gd name="textAreaLeft" fmla="*/ 766080 w 2297160"/>
                  <a:gd name="textAreaRight" fmla="*/ 2296800 w 229716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79560" cy="5756400"/>
              </a:xfrm>
              <a:custGeom>
                <a:avLst/>
                <a:gdLst>
                  <a:gd name="textAreaLeft" fmla="*/ 753120 w 3679560"/>
                  <a:gd name="textAreaRight" fmla="*/ 3679560 w 3679560"/>
                  <a:gd name="textAreaTop" fmla="*/ 0 h 5756400"/>
                  <a:gd name="textAreaBottom" fmla="*/ 2930760 h 5756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1040" cy="5757840"/>
              </a:xfrm>
              <a:custGeom>
                <a:avLst/>
                <a:gdLst>
                  <a:gd name="textAreaLeft" fmla="*/ 114840 w 581040"/>
                  <a:gd name="textAreaRight" fmla="*/ 581040 w 58104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38280" cy="5758200"/>
              </a:xfrm>
              <a:custGeom>
                <a:avLst/>
                <a:gdLst>
                  <a:gd name="textAreaLeft" fmla="*/ 304200 w 1538280"/>
                  <a:gd name="textAreaRight" fmla="*/ 1538280 w 1538280"/>
                  <a:gd name="textAreaTop" fmla="*/ 0 h 5758200"/>
                  <a:gd name="textAreaBottom" fmla="*/ 2931480 h 5758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400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7200" y="2944440"/>
                <a:ext cx="54000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4520" y="3384720"/>
                <a:ext cx="1333440" cy="1874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3920" cy="1874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6600" cy="197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6960" cy="131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2880" cy="176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8560"/>
                <a:ext cx="53964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64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C744-2FB0-46FC-B557-D5B255ED7B88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sential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the Battles of Lexington and Concord, delegates returned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ed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d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wa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ed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ive Branch Petition”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ed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4160" y="244080"/>
            <a:ext cx="7769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ots and Loy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4600" y="186372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cross the colonies, opinion was sharply divided over the question of rebell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atrio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 of the pop.) favored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Loyalis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) remained loyal to Britain and King George III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still considered themselves “British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they still needed British prot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relied on trade with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British gov't offered more freedom (common sentiment among Indians and Black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ared the unknown:  “mob rule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any other colonists remained on the fence on the issue of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Patriots felt they needed to convince those who were neutral in order to support the war eff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980720"/>
            <a:ext cx="8183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other words, regaining full status as subjects of Britain would still leave them subordinate to an unelected monar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ould only help if the war wa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id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wa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